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565-5EA1-4697-AC47-7368911A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9D3-1199-4453-871E-EC4B3AB3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41F-5FF6-43B6-8DC1-EA864CF0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118-2CA4-41C8-9C59-87E5DC57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063-D913-4B7F-BE2C-F59203E4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CA80-AA81-4496-B38B-17D241BF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1F3E-48A6-4E5A-83BE-BF9C6843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BA2D-7B68-4F7C-A368-BE755D40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E174-6697-444E-AC1B-13FC70C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4985-9091-4A53-9559-4CCCC320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32F2-EEC2-4740-B661-143575B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FCC-0835-43E7-8333-125013DC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EDC8-EFEC-467F-937E-2EBD0D1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52C0-AFEA-48D0-8B7C-CE512BF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2130-8DF5-407F-84A6-6289473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B0A-0703-4037-B978-340DCBA9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7375-9993-4171-B526-642DEE45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F17-BE09-4CFC-BB5F-89143464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3A4-3270-4DD8-B1FE-28E8252A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7F3-DB3F-4961-B797-6908C85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367-F559-46D7-A972-395C1089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F8C-E4A5-4B36-A73A-141B15B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D02-8ED3-4AC2-9282-D1772A1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E3B-3142-4DA2-A425-09357023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220E-9AC5-4D15-BF49-DAECD2638A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AD62-9477-46CD-B0C4-CE4FC72B747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805356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Аз да буки –</a:t>
            </a:r>
            <a:br>
              <a:rPr sz="4800"/>
            </a:b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 к мудрости</a:t>
            </a:r>
            <a:r>
              <a:rPr b="0" lang="ru-RU" sz="48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упеньки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979280" y="386064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Путешествие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в историю сельской школ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(Музейный урок)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4145040" cy="4162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4146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4736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лфави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4330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Times New Roman"/>
              </a:rPr>
              <a:t>Школьное имущ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48000" y="1483920"/>
            <a:ext cx="343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В школе 1914 г.  было следующее имущество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Ведро железное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Вешалк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Вывеск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Замок висячий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Икон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Кадка деревянная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Ковш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Классная доск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Кочерг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Коромысло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Котел для варки пищи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Лампа столовая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Лампад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Парт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Портрет государя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Стол классный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Стол кухонный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Стул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Таз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Ухват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Флаг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Часы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Шкаф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Щеть обыкновенная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Глиняное блюдо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Деревянная ложка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00"/>
                </a:solidFill>
                <a:latin typeface="Arial"/>
              </a:rPr>
              <a:t>Поварешка </a:t>
            </a: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52400" y="105228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33"/>
                </a:solidFill>
                <a:latin typeface="Times New Roman"/>
              </a:rPr>
              <a:t>УЧЕНЬЕ     СВЕТ, </a:t>
            </a:r>
            <a:br>
              <a:rPr sz="3200"/>
            </a:br>
            <a:r>
              <a:rPr b="1" lang="ru-RU" sz="3200" spc="-1" strike="noStrike">
                <a:solidFill>
                  <a:srgbClr val="999933"/>
                </a:solidFill>
                <a:latin typeface="Times New Roman"/>
              </a:rPr>
              <a:t>А НЕУЧЕНЬЕ – ТЬМА</a:t>
            </a:r>
            <a:br>
              <a:rPr sz="3200"/>
            </a:br>
            <a:r>
              <a:rPr b="0" lang="ru-RU" sz="3200" spc="-1" strike="noStrike">
                <a:solidFill>
                  <a:srgbClr val="999933"/>
                </a:solidFill>
                <a:latin typeface="Times New Roman"/>
              </a:rPr>
              <a:t>Старинные русские пословицы и поговор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4230720" y="2708280"/>
            <a:ext cx="1944720" cy="360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1835280" y="2997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7054920" y="2637000"/>
            <a:ext cx="1641240" cy="3528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33"/>
                </a:solidFill>
                <a:latin typeface="Times New Roman"/>
              </a:rPr>
              <a:t>Музейный  урок подготовили и пров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6360" y="1557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9933"/>
                </a:solidFill>
                <a:latin typeface="Arial"/>
              </a:rPr>
              <a:t>Матвеева Алина 9 класс - текст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9933"/>
                </a:solidFill>
                <a:latin typeface="Arial"/>
              </a:rPr>
              <a:t>Сахно Тамара, Панарина Екатерина 8 класс- рассказ «Филипок»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9933"/>
                </a:solidFill>
                <a:latin typeface="Arial"/>
              </a:rPr>
              <a:t>Клемешова Кристина, Сафонова Дарья 6 класс- загадки и пословиц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Arial"/>
              </a:rPr>
              <a:t>Жуков Игорь 6 класс – принадлежности для чистописа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Arial"/>
              </a:rPr>
              <a:t>Бунчиков Антон 9 класс- презентац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Times New Roman"/>
              </a:rPr>
              <a:t>Вериговка - Вериг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268800" cy="471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304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6360" y="260280"/>
            <a:ext cx="3915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d58a"/>
                </a:solidFill>
                <a:latin typeface="Times New Roman"/>
              </a:rPr>
              <a:t>Ученик в шк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>
            <a:lum contrast="6000"/>
          </a:blip>
          <a:srcRect l="0" t="0" r="0" b="2508"/>
          <a:stretch/>
        </p:blipFill>
        <p:spPr>
          <a:xfrm>
            <a:off x="1979640" y="189000"/>
            <a:ext cx="3411360" cy="6481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48000" y="5157720"/>
            <a:ext cx="36702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Н.П.Богданов-Бельский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«Сочинение»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33"/>
                </a:solidFill>
                <a:latin typeface="Times New Roman"/>
              </a:rPr>
              <a:t>Какие предметы изучали дети в начальной народной школе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31640" y="1483920"/>
            <a:ext cx="374508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еограф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кон Божий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атемати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рифмети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стор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узы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одной язык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имнасти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ени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иология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Times New Roman"/>
              </a:rPr>
              <a:t>Школьные предм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До революции 1917 г. в 1 отделении (так до революции назывались классы) состав предметов был следующим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лавянское чтени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Грамматик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рифметик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Закон Бож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чистописани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6676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исание урок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64000" y="2565000"/>
            <a:ext cx="424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Арифметика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Закон Божий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Родной язык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522900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.П. Богданов-Бельск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ети на урок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rcRect l="0" t="0" r="6560" b="0"/>
          <a:stretch/>
        </p:blipFill>
        <p:spPr>
          <a:xfrm>
            <a:off x="2771640" y="333360"/>
            <a:ext cx="52088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33"/>
                </a:solidFill>
                <a:latin typeface="Times New Roman"/>
              </a:rPr>
              <a:t>Л.Н.ТОЛСТОЙ</a:t>
            </a:r>
            <a:br>
              <a:rPr sz="2000"/>
            </a:br>
            <a:r>
              <a:rPr b="1" lang="ru-RU" sz="4000" spc="-1" strike="noStrike">
                <a:solidFill>
                  <a:srgbClr val="999933"/>
                </a:solidFill>
                <a:latin typeface="Times New Roman"/>
              </a:rPr>
              <a:t>ФИЛИПО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708360" y="2637000"/>
            <a:ext cx="29685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427120" y="333360"/>
            <a:ext cx="4691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1:07:01Z</dcterms:created>
  <dc:creator>Учитель</dc:creator>
  <dc:description/>
  <dc:language>en-US</dc:language>
  <cp:lastModifiedBy>СОШ с.Бутырки</cp:lastModifiedBy>
  <dcterms:modified xsi:type="dcterms:W3CDTF">2011-03-11T13:37:03Z</dcterms:modified>
  <cp:revision>8</cp:revision>
  <dc:subject/>
  <dc:title>Аз да буки –  к мудрости  ступеньки </dc:title>
</cp:coreProperties>
</file>